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BB2D-F58A-4DA6-A107-E10C11148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196F-8700-42C1-8C89-73A266AD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59FF-E2BF-4DEE-A5BB-C30E29363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4AAF-4C68-4010-BA6B-42F59222C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09E0-AD2D-47BC-92F8-D6BC225C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E3F3-086E-47FE-841A-2580F25D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58EB-B4DC-486E-9A23-13D65F83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7B21-CF2E-4CE1-87D1-8C92902F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2378-F56A-4207-92E5-7F67C66E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80E3-5CF8-493A-868F-7B42A03B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7905-36BA-4788-9CF6-B4C2F9E3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67FD-8365-4C85-AA45-4F50F2DE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Box 7"/>
          <p:cNvSpPr/>
          <p:nvPr/>
        </p:nvSpPr>
        <p:spPr>
          <a:xfrm>
            <a:off x="961920" y="708120"/>
            <a:ext cx="1204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</a:rPr>
              <a:t>MINISTRSTVO ZA </a:t>
            </a: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FINANCE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URAD REPUBLIKE SLOVENIJE ZA NADZOR PRORAČUN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A6A4-B24A-48D2-9230-AF79DB2C1E27}" type="datetime">
              <a:rPr b="0" lang="en-US" sz="1200" spc="-1" strike="noStrike">
                <a:solidFill>
                  <a:srgbClr val="bababa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31672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A98B-9207-421C-80E4-0137CA3243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78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oročilo revizijskega organa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3908520"/>
            <a:ext cx="64008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. seja nadzornega odbora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ČV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jubljana, 28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teja Vetrih</a:t>
            </a:r>
            <a:endParaRPr b="0" lang="en-US" sz="1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5AEC-FABA-4471-8AC8-7B3D32BFA2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6FA7-5DFC-44EE-B5B6-796524FE1CFE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773360"/>
          <a:ext cx="8229600" cy="4176360"/>
        </p:xfrm>
        <a:graphic>
          <a:graphicData uri="http://schemas.openxmlformats.org/drawingml/2006/table">
            <a:tbl>
              <a:tblPr/>
              <a:tblGrid>
                <a:gridCol w="2027160"/>
                <a:gridCol w="2951280"/>
                <a:gridCol w="3251160"/>
              </a:tblGrid>
              <a:tr h="111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rativni program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tevilo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ERACIJ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ki so imele v letu 2012 certificirane izdat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rtificirana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REDNOS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operacij v letu 2012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R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9.766.899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 RČV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.528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44.950.040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OPI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.886.533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aj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.08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69.603.47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5" name="Rectangle 100"/>
          <p:cNvSpPr/>
          <p:nvPr/>
        </p:nvSpPr>
        <p:spPr>
          <a:xfrm>
            <a:off x="2556000" y="549360"/>
            <a:ext cx="6130800" cy="8683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1140-FB30-4B84-9A73-A87DD80BBE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66C1-645F-4B19-A045-CA9DA99F092C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2195640" y="620640"/>
            <a:ext cx="6553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 statist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 (MUS) vzorec izbranih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7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peracij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45 operacij OP RR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16 operacij OP RČV</a:t>
            </a:r>
            <a:r>
              <a:rPr b="0" lang="en-US" sz="32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2 operacije OP ROPI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vidiran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vredn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skupaj: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105.636.349 €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1DCB-6BCB-4950-B688-B75B91F76D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2340000" y="69228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2" name="Content Placeholder 20"/>
          <p:cNvSpPr/>
          <p:nvPr/>
        </p:nvSpPr>
        <p:spPr>
          <a:xfrm>
            <a:off x="611280" y="1628640"/>
            <a:ext cx="8123040" cy="46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APAK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naključ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slučajne)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sistematičn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be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jemne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pake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R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OPI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zanemarljiv delež napak na OP RČV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previsoki izdatki za plače, nepravilni izračuni stroška dela)</a:t>
            </a:r>
            <a:endParaRPr b="0" lang="en-US" sz="2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5EF6-C40D-471B-969D-B4AC4B2360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55640" y="2924280"/>
          <a:ext cx="7858080" cy="2376360"/>
        </p:xfrm>
        <a:graphic>
          <a:graphicData uri="http://schemas.openxmlformats.org/drawingml/2006/table">
            <a:tbl>
              <a:tblPr/>
              <a:tblGrid>
                <a:gridCol w="1306080"/>
                <a:gridCol w="1815840"/>
                <a:gridCol w="1802160"/>
                <a:gridCol w="1442160"/>
                <a:gridCol w="1491840"/>
              </a:tblGrid>
              <a:tr h="85716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evilo revidiranih operacij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dirana vrednost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ednost napake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napa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7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81.8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3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9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OP RČV *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649.570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9.39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4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OP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50.9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30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8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66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Skupaj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8.482.41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79.08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0,93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6" name="Rectangle 3"/>
          <p:cNvSpPr/>
          <p:nvPr/>
        </p:nvSpPr>
        <p:spPr>
          <a:xfrm>
            <a:off x="611280" y="1600200"/>
            <a:ext cx="799308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Revizije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dodatnih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2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operacij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63180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  <a:tab algn="l" pos="5033880"/>
                <a:tab algn="l" pos="527364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dopolnil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, izvedel zunanji izvajalec –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KPMG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55371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* ugotovljena nepravilnost pri mladem raziskovalcu, ki je uveljavljal neupravičene stroške izobraževanja in tudi ni doktoriral v roku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E72C-BA49-4743-A3A1-434316D9C7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topnj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apake 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jbolj verjetn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,80%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rejemljiv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,00%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rednos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napak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16000" y="4781520"/>
          <a:ext cx="6985080" cy="1095480"/>
        </p:xfrm>
        <a:graphic>
          <a:graphicData uri="http://schemas.openxmlformats.org/drawingml/2006/table">
            <a:tbl>
              <a:tblPr/>
              <a:tblGrid>
                <a:gridCol w="4105440"/>
                <a:gridCol w="287964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na projicirana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najbolj verjetna napaka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rejemljiva (dopustna)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92.069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BF18-B341-495A-98B2-E2C938CE4A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51CC-9C05-402B-ABEF-EFF65797F070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268360" y="18900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č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95280" y="1773360"/>
            <a:ext cx="87487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 u="sng">
                <a:solidFill>
                  <a:srgbClr val="000000"/>
                </a:solidFill>
                <a:uFillTx/>
                <a:latin typeface="Calibri"/>
              </a:rPr>
              <a:t>Korektivni ukrepi OU in PO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5 % finančna korekcija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na PU “turizem”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2.774.693 €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-   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samokorekcija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nad 2 % dopustne napak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3.700.000 €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 flipV="1" rot="10800000">
            <a:off x="249120" y="5012280"/>
            <a:ext cx="889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NAJBOLJ VERJETNA NAPAKA &lt; DOPUSTNA NAPA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MNENJE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BREZ PRIDRŽ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B1C7-9B3E-4993-BA1E-5C1B80F333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1830-1BFF-4739-9643-4A37586BA454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CEBE-9962-499C-A387-40A2FFE0C644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2268360" y="260280"/>
            <a:ext cx="6407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no poročilo o nadzor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mnenje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268360" y="26028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č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468360" y="1844640"/>
            <a:ext cx="82803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Korespondenca RO z EK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LP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slano EK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31.12.2013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Postopek ustavitve plačil za OP RR in OP ROPI: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6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DG EMPL obravnava OP RČV posebej in ne zahteva zaustavitve plačil/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Ocena EK o sprejemljivosti LPN: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0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08AD-64CC-4A07-859F-0DB09FD0E4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95280" y="765000"/>
            <a:ext cx="649116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Aktualno v l. 2014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Revizije operacij za izdatke, certificirane leta 2013 - v izvajanju revizije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74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, od tega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39 OP RR , 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16 OP RČV</a:t>
            </a:r>
            <a:r>
              <a:rPr b="0" lang="sl-SI" sz="2400" spc="-1" strike="noStrike">
                <a:solidFill>
                  <a:srgbClr val="999999"/>
                </a:solidFill>
                <a:latin typeface="Calibri"/>
              </a:rPr>
              <a:t> in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19 OP ROPI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Dodat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 revizij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25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sourcing)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apovedane so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3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revizije EK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(D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) v Sloveniji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junij: OP RR (izbor operacij in upravičenost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eptember: OP ROPI (javna naročila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ktober: PO, OU (izterjave nepravilnosti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A2C1-674B-448F-872E-3C75EDA525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4000" spc="-1" strike="noStrike">
                <a:solidFill>
                  <a:srgbClr val="0000ff"/>
                </a:solidFill>
                <a:latin typeface="Calibri"/>
              </a:rPr>
              <a:t>Hvala za pozornost</a:t>
            </a:r>
            <a:r>
              <a:rPr b="1" lang="sl-SI" sz="3600" spc="-1" strike="noStrike">
                <a:solidFill>
                  <a:srgbClr val="0000ff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Urad RS za nadzor proračuna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alibri"/>
              </a:rPr>
              <a:t>Revizijski organ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Fajfarjeva 33,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502 Ljubljana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ff"/>
                </a:solidFill>
                <a:latin typeface="Arial"/>
              </a:rPr>
              <a:t>Mateja Vetrih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, Sektor za revizijo evropskih strukturnih skladov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T: 01 369 69 39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www.unp.gov.si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69B2-BFAE-41BA-ADC1-61EB54073A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11280" y="764640"/>
            <a:ext cx="621216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Naloge revizijskega organ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sistem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operacij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no poročilo o nadzoru in mnenje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42DD-8819-4F9F-9064-690C734F68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116000" y="1484280"/>
            <a:ext cx="741672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vedene revizije sistema d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ja 201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SVLR (jul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za potrjevanje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VZT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ŠŠ (mar. 2010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G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DDSZ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MGRT (feb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IZKŠ (apr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600" spc="-1" strike="noStrike">
                <a:solidFill>
                  <a:srgbClr val="0000ff"/>
                </a:solidFill>
                <a:latin typeface="Calibri"/>
              </a:rPr>
              <a:t>MNZ 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(dec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3F90-D94B-441D-9E32-02C3E03F3C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zveden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aknad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vizije sistema in pregledi izpolnjevanja priporočil do maja 201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 (mar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VZT (mar. 2010, sept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 (jul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ŠŠ (jan. 2012, jan. 2013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G (dec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DDSZ (dec. 2011, dec. 2012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OU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MGRT 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MIZKŠ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37E8-68C4-4EA1-956C-752C1832AB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40000" y="634680"/>
            <a:ext cx="63468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upaj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izdanih PRIPOROČI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z revizij: 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50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ŠE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ODPR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RIPOROČILA (za OP RČV):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 upravljanja (OU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IZKŠ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T MNZ :                                            2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40F876-1B48-4280-B86B-34ACEB5567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114640" y="380880"/>
            <a:ext cx="6675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pred spremembo</a:t>
            </a: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5440" y="1417680"/>
            <a:ext cx="83613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22CBC7-AF7C-4594-A2AE-301A8949E1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13120" y="274320"/>
            <a:ext cx="66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o spremembi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993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68F8-FBAD-428A-AB4E-2B029CEF4F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D11E-8604-4C6B-89F3-C898F0404D3F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268360" y="692280"/>
            <a:ext cx="634716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atik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talnih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prememb sistem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O je pripravil novo analizo tveganj za vsa PT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 je zopet pripravil novo revizijsko strategijo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a začetku leta 2014 dokumenta poslana na EK) </a:t>
            </a:r>
            <a:r>
              <a:rPr b="0" lang="en-US" sz="24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DBBF-6BFF-4A41-9B87-68D681EDC7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40000" y="764640"/>
            <a:ext cx="6346800" cy="6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SNOVE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zdatki, potrjeni v koledarskem letu 201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upna ocena sistema - kategorij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stično vzorčenje - MUS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 vzorec z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vse tri OP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07:29:29Z</dcterms:created>
  <dc:creator>Roman Rojko</dc:creator>
  <dc:description/>
  <dc:language>en-US</dc:language>
  <cp:lastModifiedBy>Jure Mekinc</cp:lastModifiedBy>
  <dcterms:modified xsi:type="dcterms:W3CDTF">2014-05-27T08:13:08Z</dcterms:modified>
  <cp:revision>73</cp:revision>
  <dc:subject/>
  <dc:title>Slide 1</dc:title>
</cp:coreProperties>
</file>